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2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D6BC-C146-49F9-8488-E4AFC004C91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4F8-B44B-4DF2-9700-670C08A16E8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46432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br>
              <a:rPr sz="3200"/>
            </a:b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5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хемија 1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кени </a:t>
            </a:r>
            <a:br>
              <a:rPr sz="2800"/>
            </a:b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9280" y="128736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ометријска изомерија код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071720" y="4929120"/>
            <a:ext cx="6676920" cy="114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Rectangle 1"/>
          <p:cNvSpPr/>
          <p:nvPr/>
        </p:nvSpPr>
        <p:spPr>
          <a:xfrm>
            <a:off x="123840" y="2205000"/>
            <a:ext cx="891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услед спречене ротације око двострук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изомерија припада посебној врсти изомерије која се бави просторним распоредом атома и назива се стереоизом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мери као што с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-бутен, који се разликују само        по простор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еду атома, називају се стереоизо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ља се само ако су са обе стране двогубе везе различити супституе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50920" y="402588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пилен, 1-бутен и изобутилен не показују геометријску изомери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891800" y="2351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зо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862880" y="323856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зо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925560" y="5084640"/>
            <a:ext cx="693432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7"/>
          <p:cNvGraphicFramePr/>
          <p:nvPr/>
        </p:nvGraphicFramePr>
        <p:xfrm>
          <a:off x="1681200" y="1343160"/>
          <a:ext cx="444024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1200" y="1343160"/>
                    <a:ext cx="44402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Oval 1"/>
          <p:cNvSpPr/>
          <p:nvPr/>
        </p:nvSpPr>
        <p:spPr>
          <a:xfrm>
            <a:off x="1258920" y="1197000"/>
            <a:ext cx="230508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"/>
          <p:cNvSpPr/>
          <p:nvPr/>
        </p:nvSpPr>
        <p:spPr>
          <a:xfrm>
            <a:off x="2195640" y="5084640"/>
            <a:ext cx="863640" cy="9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4702320" y="5084640"/>
            <a:ext cx="863280" cy="9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7093080" y="5084640"/>
            <a:ext cx="863640" cy="9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62000" y="1268280"/>
            <a:ext cx="896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еометријских изомера расте са бројем двогубих в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зноси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двогубих веза са различит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ентима са сваке стран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изомерија се јавља увек када је спреч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а ротација, а не само код двогуб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р за то су циклична једињењ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rcRect l="0" t="0" r="0" b="26887"/>
          <a:stretch/>
        </p:blipFill>
        <p:spPr>
          <a:xfrm>
            <a:off x="1547640" y="4411800"/>
            <a:ext cx="5472360" cy="1439640"/>
          </a:xfrm>
          <a:prstGeom prst="rect">
            <a:avLst/>
          </a:prstGeom>
          <a:ln w="0">
            <a:noFill/>
          </a:ln>
        </p:spPr>
      </p:pic>
      <p:sp>
        <p:nvSpPr>
          <p:cNvPr id="79" name="Oval 1"/>
          <p:cNvSpPr/>
          <p:nvPr/>
        </p:nvSpPr>
        <p:spPr>
          <a:xfrm>
            <a:off x="1547640" y="4411800"/>
            <a:ext cx="5032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3132000" y="4411800"/>
            <a:ext cx="5032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6446880" y="5114880"/>
            <a:ext cx="50328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824360" y="4411800"/>
            <a:ext cx="5032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79280" y="18446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икс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могу се применити када је 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ише различитих супституената везано 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губе вез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такве случаје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усвојио алтернатив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именовања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08000" y="887400"/>
            <a:ext cx="903600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за одређивањ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из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дит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орит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а везаних за сва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губе везе пона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оритет се одређује према атомском броју прв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 везаног за двогубо везане С-атоме: већи атом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– већи приоритет цел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да се две групе највишег приоритета налаз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ним странама двогубе везе, молекул има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конфигурациј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gege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 немачком “насупрот”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да се два супституента највишег приоритета налаз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ј страни двогубе везе, молекул је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изом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sammen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 немачком “заједно”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900000" y="1486080"/>
          <a:ext cx="6577200" cy="11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6080"/>
                    <a:ext cx="657720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268200" y="2714760"/>
            <a:ext cx="4000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2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луороете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970440" y="270684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3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79280" y="3284640"/>
            <a:ext cx="78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о су први везани атоми исти, онда се гледају први атоми до њ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ћи приоритет има атом везан двоструком везом, него тај исти атом везан једноструком в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1670040" y="5013360"/>
          <a:ext cx="51404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0040" y="5013360"/>
                    <a:ext cx="5140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Oval 3"/>
          <p:cNvSpPr/>
          <p:nvPr/>
        </p:nvSpPr>
        <p:spPr>
          <a:xfrm>
            <a:off x="6084720" y="4854600"/>
            <a:ext cx="863640" cy="735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08000" y="1125360"/>
            <a:ext cx="91123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ке особине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is-trans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з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о су групе око двогубе везе сувише велике,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у неће бити довољно простора за њих, па ће </a:t>
            </a:r>
            <a:br>
              <a:rPr sz="2400"/>
            </a:b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изомер бити стабилниј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геометријски изомери припадају истој кла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, имају сличне хемијске особине-реагују 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м реагенсима, али различитом брз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ке особине су им различите (поларност, та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ључања, тачка топљења, растворљивост, инд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мања, густина) и захваљујући томе релативно се л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ј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201080" cy="1241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1258920" y="3573360"/>
            <a:ext cx="2286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klj.= 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t.= -139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265720" y="3573360"/>
            <a:ext cx="2666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klj. =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t. = -10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5"/>
          <p:cNvCxnSpPr/>
          <p:nvPr/>
        </p:nvCxnSpPr>
        <p:spPr>
          <a:xfrm flipH="1" flipV="1">
            <a:off x="5795640" y="2276280"/>
            <a:ext cx="50544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8" name="Straight Arrow Connector 7"/>
          <p:cNvCxnSpPr/>
          <p:nvPr/>
        </p:nvCxnSpPr>
        <p:spPr>
          <a:xfrm>
            <a:off x="7092720" y="2680920"/>
            <a:ext cx="432360" cy="2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08000" y="981000"/>
            <a:ext cx="8570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ке особине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 су особинама ал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пен растворљивости у води је нешто већи него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на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ћа електронска густина на двогубој в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могућава извесно асосовање са дипол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творни у неполарним растварачим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устина им је мања од густине воде (као и код алка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огуба веза нема знатнијег утицаја на тачке кључањ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е топљењ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79280" y="1484280"/>
            <a:ext cx="8570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ијање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рекција којом се двогуба веза уводи у молек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реакциј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ли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54738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9280" y="1628640"/>
            <a:ext cx="857268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лк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и су угљоводоници који на једном месту у с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у имају два суседна угљеникова атома спој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губом (незасићеном) в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шта формула алкена 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sl-SI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sl-SI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n</a:t>
            </a:r>
            <a:r>
              <a:rPr b="0" lang="sl-SI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огуба веза – узрок разлика између алкена и ал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огуба веза ка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онална груп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79280" y="1197000"/>
            <a:ext cx="88250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хидратација алкох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ени се добијају дехидратацијом алкохола помоћ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не или фосфорне киселине на температури 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°С, или превођењем пара алкохола пре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а, као што је алуминијум-оксид, на 350-400 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66720" y="4273560"/>
          <a:ext cx="76312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4273560"/>
                    <a:ext cx="76312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79280" y="14130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коћа дехидратације зависи од структуре алкохо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јлакше се дехидратишу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цијар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ајтеж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ар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кох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32000" y="2751120"/>
            <a:ext cx="5688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41120" y="1197000"/>
            <a:ext cx="8572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бонијум ј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 примаран, секундаран или терцијаран, п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ом атому који носи позитивну шар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коћа дехидратације - стабилност интермедијарн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јум-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стабилност карбонијум-јона утичу групе које су вез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њ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3855960" y="5284800"/>
          <a:ext cx="10764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5960" y="5284800"/>
                    <a:ext cx="10764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79280" y="1413000"/>
            <a:ext cx="8321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уктивни ефе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могу да утичу на померање, тј. неравномерн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у електрона у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мерање електрона 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ма дуж угљениковог н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појединих група назива се индуктив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и обележава се 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о је перманентно присутан у датом молекул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назива стат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же бити негативан (ознака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позитиван (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139680" y="144288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ан индуктивни ефекат присутан је код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јих је неки изразито електронегативни елемен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цимо хлор) везан за С-ато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39680" y="422100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, иако помера електроне 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мења тип вез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ада брзо са растојањ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 да практично ишчез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ругог или трећег С-атом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552600" y="2854440"/>
          <a:ext cx="689436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854440"/>
                    <a:ext cx="68943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08000" y="14842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и индуктивни ефекат неке групе одређује с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венцији, у односу на атом водоника у вези С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о нека група Y јаче привлачи електроне од ато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а и тиме смањује електронску густину у оста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 у већој мери него што то чини Н-атом, к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да група Y показује негативни индуктивни ефекат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протном случају, ако, рецимо, гру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аб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и електроне 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а, односно повећ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у густину у остатку молекула, онда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 позитиван индуктивни ефекат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182520" y="1835280"/>
            <a:ext cx="44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е са негативним </a:t>
            </a:r>
            <a:r>
              <a:rPr b="0" i="1" lang="sl-SI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I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том</a:t>
            </a:r>
            <a:r>
              <a:rPr b="0" i="1" lang="sl-SI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798480" y="2666880"/>
            <a:ext cx="43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OH, CN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огени 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23200" y="3789360"/>
            <a:ext cx="45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е са позитивним +</a:t>
            </a:r>
            <a:r>
              <a:rPr b="0" i="1" lang="sl-SI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том</a:t>
            </a:r>
            <a:r>
              <a:rPr b="0" i="1" lang="sl-SI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939600" y="450072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ил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08000" y="16686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утицај индуктивног ефекта група на стабилност карбонијум-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705360" cy="1442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250920" y="4149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ује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ат 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ире шарж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абилизује карбонијум-јо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292720" y="41497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има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ат, повећава шаржу и дестабилизује карбонијум-ј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"/>
          <p:cNvSpPr/>
          <p:nvPr/>
        </p:nvSpPr>
        <p:spPr>
          <a:xfrm>
            <a:off x="684360" y="3941640"/>
            <a:ext cx="3881160" cy="164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5359320" y="3860640"/>
            <a:ext cx="3355920" cy="16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08000" y="1628640"/>
            <a:ext cx="875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и карбонијум-јон који настаје из терцијарног алкохола најстабилнији је, јер има највећи број алкил- група које отпуштају електроне и стабилизују 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билност карбонијум-јона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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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ћа дехидратације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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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79280" y="1268280"/>
            <a:ext cx="864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уређивање карбонијум ј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уређивање је претварање нестабилнијег карбонијум- јона у стабилнији, односно примарног у секундарни, а секундарног у терцијар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о се 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тил алкохола добија 2-бутен, а не 1- бу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324000" y="4005360"/>
          <a:ext cx="806292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80629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9280" y="156852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ени с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ло реактив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алкана, растварају се у концентровано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ној киселини, брзо реагују са хлором и бр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лежу великом броју других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првом члану хомологог низа алкени се ј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 и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и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фин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ош један назив за алкен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u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ље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e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инити, правити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1332000" y="2565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које дају више од једног производа,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 је један фаворизован у односу на остале, тј. добија се у вишку, називају с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селективне реакциј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79280" y="1413000"/>
            <a:ext cx="85726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виђање производа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јцевљево правил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 који се добија у највећем приносу је онај који настаје уклањањем протона са оног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-атома, који има најмање атома водоника везаних за себ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правило данас се често формулише на нешт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чији начин 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и производ 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иминационим реакцијама алкохола је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јсупституисанији алкен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супс. алкен &gt; три &gt; ди &gt; моно &gt; етен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4"/>
          <p:cNvGraphicFramePr/>
          <p:nvPr/>
        </p:nvGraphicFramePr>
        <p:xfrm>
          <a:off x="689040" y="1533600"/>
          <a:ext cx="734220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33600"/>
                    <a:ext cx="734220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1"/>
          <p:cNvSpPr/>
          <p:nvPr/>
        </p:nvSpPr>
        <p:spPr>
          <a:xfrm>
            <a:off x="3780000" y="1533600"/>
            <a:ext cx="2087280" cy="1390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689040" y="3284640"/>
          <a:ext cx="7765920" cy="30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284640"/>
                    <a:ext cx="77659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Oval 3"/>
          <p:cNvSpPr/>
          <p:nvPr/>
        </p:nvSpPr>
        <p:spPr>
          <a:xfrm>
            <a:off x="6588000" y="4005360"/>
            <a:ext cx="2087640" cy="143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108000" y="1628640"/>
            <a:ext cx="8928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еоселективне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тога што су региоселективне, реа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хидратације алкохола су и стереоселективн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еоселективне реакције су оне код којих се из ист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ог молекула могу добити два или ви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изомера, али у различитом принос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500040" y="1785960"/>
          <a:ext cx="830592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85960"/>
                    <a:ext cx="830592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3"/>
          <p:cNvSpPr/>
          <p:nvPr/>
        </p:nvSpPr>
        <p:spPr>
          <a:xfrm>
            <a:off x="36360" y="4076640"/>
            <a:ext cx="892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ма услова за преуређивање карбонијум-јона, па се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меша конституционо различитих алк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ијају се, међутим, оба стерео- (односно у 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 геометријска) изомер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88920" y="1484280"/>
            <a:ext cx="8896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хидрохалогеновање алкил-халоген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 јаких алкалија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 у етано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 алкил-халогениде, долази до елиминације халогеног и  водониковог атома са суседног угљениковог атома, при чему настаје алкен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8640" y="4273560"/>
          <a:ext cx="707868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4273560"/>
                    <a:ext cx="707868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08000" y="14130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халогениди углавном дају само је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, јер се елиминација протона врши само са С-2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и терцијарни халогениди дају често смеш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а, јер се елиминација може вршити са различит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их атом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1023840" y="4268880"/>
          <a:ext cx="7035840" cy="12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4268880"/>
                    <a:ext cx="703584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08000" y="1844640"/>
            <a:ext cx="832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хидрохалогеновање је реакција стереоспециф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еоспецифичне реакције су оне код којих пола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изомерни реактанти дају такође стереоизоме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типерипланаран положај халогена и вод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аква елиминација назива се анти-елиминациј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08000" y="1197000"/>
            <a:ext cx="8858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халогеновање вициналних дихалоген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халогеновање вициналних дихалогенида је ели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атома халогена из дихалогених деривата алкан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логени се из 1,2-дихалогенида уклањају помоћ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ктивних метала као што је цин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155600" y="4560840"/>
          <a:ext cx="587556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4560840"/>
                    <a:ext cx="58755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108000" y="1341360"/>
            <a:ext cx="8143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дукција ал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ом алкина добија се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ли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к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редукујућег реагенс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405080" y="3341520"/>
          <a:ext cx="580212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3341520"/>
                    <a:ext cx="580212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08000" y="1268280"/>
            <a:ext cx="8103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енклатура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ајено је да се алкен са 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а нази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ил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место пентилен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ај двогубе везе означава се грчким сл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4076640"/>
            <a:ext cx="4897440" cy="18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l-SI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l-SI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=CH</a:t>
            </a:r>
            <a:r>
              <a:rPr b="0" lang="sl-SI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е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l-SI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=CHCH</a:t>
            </a:r>
            <a:r>
              <a:rPr b="0" lang="sl-SI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утил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08000" y="1125360"/>
            <a:ext cx="8753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акције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губа веза састављена је из ја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слаб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ама адиције код алкена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 се раскид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 се јак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949320" y="3860640"/>
            <a:ext cx="6524640" cy="1328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23840" y="5283360"/>
            <a:ext cx="81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у којима се два молекула спајају у један називају се адиционе реакциј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250920" y="2421000"/>
            <a:ext cx="87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и су удаљенији од језгра и слабије се држе од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а, па су као такви у реакцијама доступнији за напад реагенаса којима електрони недостају – електрофилним реагенсим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лектрофилна ади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арактеристична реакција алке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108000" y="1484280"/>
            <a:ext cx="8321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ектрофилни реаге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са непотпуним валентним слојем е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 јони, способни да формирају ковалент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 са угљеником (нпр.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не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и, којима недостаје један електрон да попу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у електронску структуру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512640" y="2276640"/>
          <a:ext cx="597564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2276640"/>
                    <a:ext cx="597564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Box 2"/>
          <p:cNvSpPr/>
          <p:nvPr/>
        </p:nvSpPr>
        <p:spPr>
          <a:xfrm>
            <a:off x="108000" y="134136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зам електрофилне ад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179280" y="1844640"/>
            <a:ext cx="8393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иција идентичних а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кти су молекули који се у реакцији адиције везују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идентичним адуктима подразумевају се симетрич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, чији се идентични фрагменти везују са о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двогуб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236520" y="129060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хал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адиције хлора или брома на двогубу ве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а добија се 1,2-дихалогени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36520" y="469260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ор реагује сувише бурно да би реакција могла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онтролише, а јод практично не реагује или да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1036800" y="3100320"/>
          <a:ext cx="640080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3100320"/>
                    <a:ext cx="640080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108000" y="1327320"/>
            <a:ext cx="824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тече брзо, на собној температури и б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 светл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реакциј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906480" y="3036960"/>
          <a:ext cx="665172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3036960"/>
                    <a:ext cx="6651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08000" y="1268280"/>
            <a:ext cx="81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иција халогена је стереоспецифична – анти-адиција (атоми халогена везују се са супротних страна у односу на раван двогубе ве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38240" y="55166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кција адиције брома на двогубу везу служи за доказивање двогуб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3"/>
          <p:cNvGraphicFramePr/>
          <p:nvPr/>
        </p:nvGraphicFramePr>
        <p:xfrm>
          <a:off x="539640" y="3213000"/>
          <a:ext cx="74725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213000"/>
                    <a:ext cx="7472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79280" y="1197000"/>
            <a:ext cx="81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им халогенида, напад на карбонијум-јон у другој фази реакције може извршити и било који други нуклеофил присутан у систем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611280" y="2363760"/>
          <a:ext cx="7772400" cy="44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63760"/>
                    <a:ext cx="777240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250920" y="1413000"/>
            <a:ext cx="81025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водо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лефини адирају водоник у присуству фино иситњеног металног катализатора и дају ал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 се назива каталитичка хидрогенизациј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тализатори су најчешће никл, платина или паладијум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кција је стереоспецифична син-адиција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осно оба водоникова атома се везују са ис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ње заштићене стране двогубе вез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08000" y="138744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обележавање не односи се на симетрију целог молекула, већ само служи за разликовање оваквих изомер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090440" y="2565360"/>
            <a:ext cx="728676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l-SI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=CH</a:t>
            </a:r>
            <a:r>
              <a:rPr b="0" lang="sl-SI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етиле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l-SI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=CHCH</a:t>
            </a:r>
            <a:r>
              <a:rPr b="0" lang="sl-SI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тиле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C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тиле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8000" y="4581360"/>
            <a:ext cx="87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ена следећих алкил-група често се употребљав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ен                  винил                        алил                             изопропени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0" t="0" r="0" b="26812"/>
          <a:stretch/>
        </p:blipFill>
        <p:spPr>
          <a:xfrm>
            <a:off x="539640" y="5013360"/>
            <a:ext cx="7837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179280" y="198900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идрогенизација је егзотерман процес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ина топлоте која се ослободи када се један мол незасићеног једињења хидрогенизује назива се топлота хидрогенизациј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већину алкена топлота хидрогенизације износи приближно 125,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двогубој вез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179280" y="1125360"/>
            <a:ext cx="8248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иција несиметричних а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халогеноводо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гасовитог халогеноводоника у алкен добија се халогеноалк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адициј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ропен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69152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28520" y="1125360"/>
            <a:ext cx="8643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ковниковљево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је тзв. региоселективна електрофилна адиција на несиметричне алкене и тече по Марковниковљевом правилу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доников атом сваког несиметричног реагенса везује се за онај угљеников атом двогубе везе који има за себе везан већи број водоников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187280" y="4076640"/>
            <a:ext cx="69598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8000" y="1773360"/>
            <a:ext cx="87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правило може се уопштити тако да обухвата и случајеве у којима ни један од адуката није атом водоника, односно ниједан од двогубо везаних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а нема за себе везан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е адиције на двогуб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у врше се тако да се као интермедијер добиј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јстабилнији карбонијум ј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79280" y="1557360"/>
            <a:ext cx="871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сумпорне кисе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ђењем гасовитог алкена кроз хладну, концентровану сумпорну киселину, или мућкањем течног алкена с киселином, гради се адиционо једињење – алкил-хидроген-сулфат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042920" y="4076640"/>
            <a:ext cx="66661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179280" y="1519200"/>
            <a:ext cx="817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-хидроген-сулфат се лако хидролизује у алкохол, што ову реакцију чини јако погодном за индустријско добијање алкохола (адиција воде директно на олефин не иде тако лако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539640" y="3213000"/>
          <a:ext cx="800100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213000"/>
                    <a:ext cx="80010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3"/>
          <p:cNvSpPr/>
          <p:nvPr/>
        </p:nvSpPr>
        <p:spPr>
          <a:xfrm>
            <a:off x="198360" y="4284720"/>
            <a:ext cx="862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тече по Марковниковљевом правилу, па се изузев етил алкохола не могу добити примарни алкохо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се олефини растварају у концентрованој сумпорној киселини, ова реакција се често користи за њихово разликовање од алкана или за пречишћавањ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179280" y="1197000"/>
            <a:ext cx="8570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в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м адицијом воде на олефине, у присуству киселине, добијају се такође алкох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1763640" y="3005280"/>
          <a:ext cx="4572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005280"/>
                    <a:ext cx="4572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3"/>
          <p:cNvSpPr/>
          <p:nvPr/>
        </p:nvSpPr>
        <p:spPr>
          <a:xfrm>
            <a:off x="304920" y="4508640"/>
            <a:ext cx="83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реакције је исти као код адиције сумпорне киселине или халогеновод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и напад протона из киселин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ни напад воде на настали карбонијум-ј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177840" y="1413000"/>
            <a:ext cx="8715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хипохалогенск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ом халогена у присуству воде (хипохалогенастих киселина) на олефине добијају се халохидрин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6048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179280" y="1413000"/>
            <a:ext cx="8321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цијановодо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водоник се адира на алкене на високој температури (35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C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у активног алуминијум-окси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приносе дају алкени с двогубом везом на крају низа (тзв. терминални алкени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604880" y="4533840"/>
          <a:ext cx="574848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4533840"/>
                    <a:ext cx="57484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250920" y="1341360"/>
            <a:ext cx="85723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алкена. Димер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је могућа само у присуству одговарајућег катализатора, као што је нпр. киселина, радикал, база или прелазни мета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приликом двогубе везе мономер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чки, једини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чки, део) везују се тако да се добијају димери, тримери, олигомери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g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чки, неколико, мало), или полимери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umer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чки, из много делов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08000" y="733320"/>
            <a:ext cx="88581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ведена имена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имена изводе се из етилена за рачвасте алке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су водоникови атоми у етилену замењ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-груп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де се јавља посебан облик изомерије као послед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ивања водоникових атома алкил-групама на и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различитом угљениковом атому двогуб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мер код кога су групе смештене симетрично, тј. са 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двогубе везе, означава се с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мер код кога су обе групе на истом угљениковом а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 се асиметричан и означава се с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108000" y="142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 одговарајућим условима реакцију је могуће водити тако, да се као главни производ добије дим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 разблажене сумпорне киселине на 2-метилпропен добијају се два димера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611280" y="3389400"/>
          <a:ext cx="7675560" cy="30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89400"/>
                    <a:ext cx="7675560" cy="30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108000" y="144000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филни напад протона на двогубу везу и настајање карбонијум-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65240" y="3778200"/>
            <a:ext cx="87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ад карбонијум-јона, као електрофила, на двогубу везу другог молекула 2-метилпропен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301760" y="2482920"/>
          <a:ext cx="551340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2482920"/>
                    <a:ext cx="55134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770040" y="4965840"/>
          <a:ext cx="7451640" cy="12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4965840"/>
                    <a:ext cx="745164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1413000"/>
            <a:ext cx="88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 карбонијум-јон може ступити у различите ре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а трећим молекулом 2-метилпропена и настајање већег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 суседног протона и настајање алкен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аведеним условима реакција се зауставља на једињењу од осам С-атома, које је алк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ијање 2 различита производа објашњава се могућношћу елиминације 2 различита протона у сусед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1"/>
          <p:cNvGraphicFramePr/>
          <p:nvPr/>
        </p:nvGraphicFramePr>
        <p:xfrm>
          <a:off x="395280" y="2349360"/>
          <a:ext cx="817740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177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108000" y="1197000"/>
            <a:ext cx="8248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иција алкана-алкил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 алкани се такође могу адирати на двогубу везу алкена, дајући при том као производ други алкан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е другачије означава као алкилација и катализована је јаким кисел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219240" y="4324320"/>
          <a:ext cx="83484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4324320"/>
                    <a:ext cx="8348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139680" y="116856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тече у три корака, од којих су два идентична као код адиције алкена при димеризацији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1447920" y="2322360"/>
          <a:ext cx="535608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22360"/>
                    <a:ext cx="535608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700200" y="3365640"/>
          <a:ext cx="7184880" cy="11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0200" y="3365640"/>
                    <a:ext cx="7184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7"/>
          <p:cNvGraphicFramePr/>
          <p:nvPr/>
        </p:nvGraphicFramePr>
        <p:xfrm>
          <a:off x="139680" y="4941720"/>
          <a:ext cx="8891640" cy="14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680" y="4941720"/>
                    <a:ext cx="8891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79280" y="1413000"/>
            <a:ext cx="8785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идроборовање-оксид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н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 да се адира на двогубу везу алкена и без каталитичке активације, (реакција се зове хидроборовање) дајући притом алкилборане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 при оксидацији дају алкохоле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463680" y="4282920"/>
          <a:ext cx="821664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282920"/>
                    <a:ext cx="8216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108000" y="1341360"/>
            <a:ext cx="9036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кција је једноставна за извођење, принос изузетно висок, а производе је веома тешко добити из алкена на неки други начин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ран постоји као димер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одаје се у раствору тетрахидрофурана (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 киселинско-базни комплекс са кисеоником из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1386000" y="4552920"/>
          <a:ext cx="606564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4552920"/>
                    <a:ext cx="606564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181080" y="141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представља стереоспецифичну син-адици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181080" y="2565360"/>
          <a:ext cx="864396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2565360"/>
                    <a:ext cx="864396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08000" y="1413000"/>
            <a:ext cx="8862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роборовање није само стереоспецифично, већ је и региоселективно: бор се везује увек за мање супституисани угљеник двогубе вез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ција борана на двогубу везу у складу је са Марковниковљевим правило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алкилборани се могу оксидовати алкалним раствором водоник-пероксида у алкох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ајњи резултат две реакције хидроборовања и оксидациј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 формална адиција молекула воде на двогубу везу и то супротно Марковниковљевом правил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08000" y="1125360"/>
            <a:ext cx="86439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UPAC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стем номенкл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ти се за сложеније алк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основну структуру узима се најдужи низ који 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губу везу (уколико постоје дужи низови који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двогубу везу, не узимају се у обзи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едињење се именује као да је изведено из основн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 заменом водоникових атома алкил-груп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зив основног низа изводи се од алкана са ист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ем С-атома, тако што се уместо наставка –ан дода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икс –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179280" y="144144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ханизам оксидације алкилборана укључује електрофилни напад боровог атома на врло нуклеофилни хидропероксидни јон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79280" y="5132520"/>
            <a:ext cx="8072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 се понавља док све три алкил-групе не мигрирају на кисеоникове атоме, при чему се добија триалкил-бора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411120" y="3338640"/>
          <a:ext cx="802008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3338640"/>
                    <a:ext cx="80200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179280" y="143208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лкил-борат, као неоргански естар, хидролизује у базној средини дајући одговарајући алкохол и натријум-бо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79280" y="422100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а борана на двогубу везу је врло селективна, па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ом у следећој фази региоселективн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специфично могу добити алкохол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3"/>
          <p:cNvGraphicFramePr/>
          <p:nvPr/>
        </p:nvGraphicFramePr>
        <p:xfrm>
          <a:off x="1179360" y="2919240"/>
          <a:ext cx="56120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2919240"/>
                    <a:ext cx="5612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73080" y="1052640"/>
            <a:ext cx="9070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дикалска ад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а бромоводоника на алкен може да теч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ским механизмом и то супротно Марковниковље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у - анти-Марковниковљева ади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919080" y="3705120"/>
          <a:ext cx="6585120" cy="14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3705120"/>
                    <a:ext cx="658512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08000" y="1152360"/>
            <a:ext cx="8072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зам слободнорадикалске ад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е одвија у присуству радикала, најчешћ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и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ханизам је аналоган халогеновању ал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1057320" y="3247920"/>
          <a:ext cx="517212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3247920"/>
                    <a:ext cx="51721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2"/>
          <p:cNvGraphicFramePr/>
          <p:nvPr/>
        </p:nvGraphicFramePr>
        <p:xfrm>
          <a:off x="1332000" y="1938240"/>
          <a:ext cx="562140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38240"/>
                    <a:ext cx="562140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179280" y="1052640"/>
            <a:ext cx="84283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радикала је иста као и код карбонијум-јо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H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адициј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ва фаза – адиција водоника и грађење најстабилниј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јум-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о радикалска адициј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ва фаза – адиција брома и грађење најстабилниј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ог радикал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овога је супротна оријентација при адицији, односно анти-Марковниковљева ади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179280" y="1125360"/>
            <a:ext cx="85726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али халогеновово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дају анти-Марковниковљеве адици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е на алкене, без обзира на присуство перокс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вољна кинетика једне од фаза пропаг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боднорадикалски иницијатори мењају механиз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алкене из јонског у слободно радикалски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следица је анти-Марковниковљева региоселективност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д свих халогеноводоника једи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еже сл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ској реакцији ади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06200" y="114156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меризација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а алкена врши се адицијом једног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а на други, при чему се добијају молекули вел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е мас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39680" y="48625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 је присуство катализатора, било јонског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ског, па се према томе полимеризација и 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онску и радикалску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1522440" y="3605040"/>
          <a:ext cx="5145120" cy="8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605040"/>
                    <a:ext cx="5145120" cy="8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22400" y="134136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етилен загрева са кисеоником, добија се полиетилен, једињење велике молекулске масе (око 20.000), односно алкан са врло дугим низом састављеним од много алкенских ј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2274840" y="4008600"/>
          <a:ext cx="422928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4840" y="4008600"/>
                    <a:ext cx="4229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179280" y="1157400"/>
            <a:ext cx="817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нилхлор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ВЦ се добија такође радикалском полимеризациј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је региоселективна, јер се пероксидни иницијатор и интермедијерни радикали адирају искључиво на несупституисани крај моно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84320" y="5084640"/>
            <a:ext cx="78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гање дејству хлоретена (винил-хлорида) доводи до ретког облика рака јетре (ангиокарцином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5"/>
          <p:cNvGraphicFramePr/>
          <p:nvPr/>
        </p:nvGraphicFramePr>
        <p:xfrm>
          <a:off x="1450800" y="3879720"/>
          <a:ext cx="506268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3879720"/>
                    <a:ext cx="506268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179280" y="1353960"/>
            <a:ext cx="832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 двогубе везе означава се бројем, при ч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ње почиње од краја који је ближи двогубој в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значава се само двогубо везани С- атом са мањ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е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ај алкил-група везаних за основни низ означ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бројем, као и код ал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070000" y="5877000"/>
            <a:ext cx="3775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н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1833480" y="4403880"/>
          <a:ext cx="424836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4403880"/>
                    <a:ext cx="424836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08000" y="1125360"/>
            <a:ext cx="8429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ституција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 двогубе везе, у извесним случајевима реактивни део молекула код алкена могу бити и присутне алкил-груп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и услови за реакцију алкил-групе (супституцију): висока температура или дејство светлости, односно зрачења одређене таласне дужин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2408400" y="4246560"/>
          <a:ext cx="405576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4246560"/>
                    <a:ext cx="405576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179280" y="162864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ов атом везан за први угљеников атом до двогубе везе посебно лако подлеже супституцији, а назива се алилни водони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5"/>
          <p:cNvGraphicFramePr/>
          <p:nvPr/>
        </p:nvGraphicFramePr>
        <p:xfrm>
          <a:off x="2714760" y="3214800"/>
          <a:ext cx="3041640" cy="19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214800"/>
                    <a:ext cx="304164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179280" y="1557360"/>
            <a:ext cx="817740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лил гр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 зависи од стабилности радикала, која расте у следећем низу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ил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нил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огуба веза повећава стабилност алил-радика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стабилност винил-радикал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79280" y="1197000"/>
            <a:ext cx="8177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ксидација алк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и се могу оксидовати на двогубој вези помоћ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 реагенас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томе се добијају 1,2-диоли (односно гликоли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ксиди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иколи: вицинални двохидроксилни алкохоли, а но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алкена из којих су на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324000" y="4641840"/>
          <a:ext cx="35272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641840"/>
                    <a:ext cx="35272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4500720" y="4749840"/>
          <a:ext cx="403200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749840"/>
                    <a:ext cx="403200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108000" y="1125360"/>
            <a:ext cx="8321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сидација перманган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м оксидацијом перманганатом (на температу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0-5 °С и у неутралном до слабо алкалном раствору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хидроксилне групе се адирају на двогубу ве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а, при чему се добијају одговарајући вицинал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1,2-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ол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1666800" y="4127400"/>
          <a:ext cx="4487760" cy="11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4127400"/>
                    <a:ext cx="44877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79280" y="1341360"/>
            <a:ext cx="796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се објашњава настанком интермедијарног цикличног естра, који се из стерних разлога може наградити само увођењем два кисеоникова атома са исте стране двогубе вез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2211480" y="3359160"/>
          <a:ext cx="452736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1480" y="3359160"/>
                    <a:ext cx="452736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179280" y="1628640"/>
            <a:ext cx="8321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метода, под именом "Ба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в тест", служи за утврђивање присуства двогубе везе. Црвена боја перманганата ишчезава у присуству алкена, а јавља се мрка боја мангандиокс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штријим условима (врео, концентровани перманганат), оксидација се збива даље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у диолу се раскидају и добијају се киселине, карбонилна једињења, угљендиоксид и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оксидације зависе од структуре алкена, па се и ова метода употребљава за утврђивање структуре алк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108000" y="1268280"/>
            <a:ext cx="8393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сидација пероксикарбоксилним кисели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дацијом двогубе везе алкена пероксикарбоксил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ма добијају се оксациклопропани (епоксиди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икарбоксилне киселине добијају се деј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- пероксида на карбоксилне киселине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1442880" y="4653000"/>
          <a:ext cx="57229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4653000"/>
                    <a:ext cx="5722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214200" y="1571760"/>
            <a:ext cx="817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акцији са алкенима, пероксикарбоксилне киселине адирају електрофилни кисеоник на двогубу везу и дају оксациклопроп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и производ реакције је карбоксилн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58760" y="3914640"/>
          <a:ext cx="86932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914640"/>
                    <a:ext cx="869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571680" y="11430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 циклично прелазно стање, које настаје интрамолекулским преласком протона пероксикарбоксилне киселине на карбонилну групу, уз истовремену адицију електрофилног кисеоника на двогубу везу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833400" y="3848040"/>
          <a:ext cx="753732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3848040"/>
                    <a:ext cx="753732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1557000"/>
            <a:ext cx="8436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о је основни низ алкена симетричан, нумерише се тако да први супституент има мањи бро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идроксилна група има предност над двоструком в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холи са двоструком везом се именују као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кен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1538280" y="3429000"/>
          <a:ext cx="5273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3429000"/>
                    <a:ext cx="5273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108000" y="1197000"/>
            <a:ext cx="8643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поксид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кисеоника врши се стереоспецифич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ржавање стереохемије полазног алкена у производ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кција се често назива епоксидациј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лабораторијским условима се за ову реакцију кор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-хлорпероксибензоева киселин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 је ова киселина осетљива на удар, за индустриј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 се више користи магнезијум-монопероксифтал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Object 3"/>
          <p:cNvGraphicFramePr/>
          <p:nvPr/>
        </p:nvGraphicFramePr>
        <p:xfrm>
          <a:off x="623880" y="1704960"/>
          <a:ext cx="805968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704960"/>
                    <a:ext cx="805968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108000" y="1125360"/>
            <a:ext cx="788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арање прстена епокс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 оксациклопропана се, под утицајем воде и каталитичких количина базе или киселине, отвара и том приликом настају вицинални ди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4"/>
          <p:cNvGraphicFramePr/>
          <p:nvPr/>
        </p:nvGraphicFramePr>
        <p:xfrm>
          <a:off x="557280" y="3343320"/>
          <a:ext cx="792324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3343320"/>
                    <a:ext cx="792324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149400" y="14130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он спада у најблажа средства за оксидативно раскидање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-С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код алк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426960" y="3284640"/>
          <a:ext cx="829476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3284640"/>
                    <a:ext cx="82947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98280" y="1268280"/>
            <a:ext cx="839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зам озоно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онолиза почиње електрофилном адицијом озон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губу везу алкена и трансформацијом која да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зони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табилни молозонид распада се на карбонилн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-оксидни фрагме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60440" y="4214880"/>
          <a:ext cx="783576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4214880"/>
                    <a:ext cx="783576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95280" y="2421000"/>
            <a:ext cx="839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бинацијом добијених фрагмената по систему глава-реп у другој фази добија се озонид, који је нестабилан и у присуству цинка и сирћетне киселине или диметил-сулфида, даје карбонилна једињења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169920" y="141300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резултат секвенце озонолиза-редукција је раскидање двогубе С=С везе и увођење двогубо везаног кисеоника за сваки С-атом раскинуте С=С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67881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Gordana Radic</cp:lastModifiedBy>
  <dcterms:modified xsi:type="dcterms:W3CDTF">2017-02-01T10:47:27Z</dcterms:modified>
  <cp:revision>81</cp:revision>
  <dc:subject/>
  <dc:title>Slide 1</dc:title>
</cp:coreProperties>
</file>